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99295"/>
        <c:axId val="73752566"/>
      </c:barChart>
      <c:catAx>
        <c:axId val="78799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2566"/>
        <c:crosses val="autoZero"/>
        <c:auto val="1"/>
        <c:lblAlgn val="ctr"/>
        <c:lblOffset val="100"/>
        <c:noMultiLvlLbl val="0"/>
      </c:catAx>
      <c:valAx>
        <c:axId val="73752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99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638-F33E-411D-87A4-5786C599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CD5-6A17-4101-9F7F-C8BD285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D75-F040-4C9A-9B61-0EB8EECE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564-4B0A-4D56-95CC-14A941AD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89B-57D8-4001-821C-8826A733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33D-FF8C-46C3-92D2-B85C4C1A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A00-12AF-40EE-9205-FCBA4D3A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C09-1471-44F2-BA36-E56E697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CA2-ECB8-433C-AA9D-B64EA98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6C8-2AD2-4BE0-BB9E-A2A6960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550-E87B-4FDC-8B35-E648BD4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8C7-D456-4923-94F9-C461E2D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BAEF4-CBB5-4B03-B3B8-7DDDC219DA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