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19699"/>
        <c:axId val="49617528"/>
      </c:barChart>
      <c:catAx>
        <c:axId val="64619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17528"/>
        <c:crosses val="autoZero"/>
        <c:auto val="1"/>
        <c:lblAlgn val="ctr"/>
        <c:lblOffset val="100"/>
        <c:noMultiLvlLbl val="0"/>
      </c:catAx>
      <c:valAx>
        <c:axId val="49617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19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C9B-DA8B-4696-8F9A-99799DAE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BC3-B5F2-4A48-BCCE-EB1A8456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2D0-EC12-4538-AF47-2AED8A33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B88-B585-49A8-B38C-EC3858AF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10C-4CC3-43C4-A6DD-8DE3F85C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E3C-5937-47F4-A64B-0CD271F9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8C2-1003-4F55-95C1-21191448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F98-0D45-419B-ABF9-994A8DA3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7B5-62AE-40C1-8BE8-2FA3327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47E-2C61-4154-95C0-75CD63DA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7B8-BE5D-4FA0-951B-CBDD337C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601-CF14-43C9-95B8-666E95AE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C1428-8745-47E5-8553-FFF303C24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