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886579"/>
        <c:axId val="20782335"/>
      </c:barChart>
      <c:catAx>
        <c:axId val="688865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782335"/>
        <c:crosses val="autoZero"/>
        <c:auto val="1"/>
        <c:lblAlgn val="ctr"/>
        <c:lblOffset val="100"/>
        <c:noMultiLvlLbl val="0"/>
      </c:catAx>
      <c:valAx>
        <c:axId val="207823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8865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72A5-9F7A-486B-A9E9-4FC5312F0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9C8C-F2E4-47EA-948C-C3811FEA4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1AA1-D030-4415-A480-DC04E9465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849E-1231-4D9E-BD78-62DB334F2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8A72-8384-4D45-B756-0B73FC6CF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B419-E6AD-423B-8593-840E1C9B3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EFBC-2389-4F82-BE32-D988B994D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6396-5A86-4F61-9B15-EC7E51289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E48C-3AE2-4236-954B-964F2FE7D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A9D7-093B-4624-98D9-66787A5F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FC94-703C-4F83-8B31-0B29C10D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2194-2DF0-472D-85C5-713C9FBB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002501-4C9E-4C3B-9555-D97098D6E7D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