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64199"/>
        <c:axId val="97560665"/>
      </c:barChart>
      <c:catAx>
        <c:axId val="33564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60665"/>
        <c:crosses val="autoZero"/>
        <c:auto val="1"/>
        <c:lblAlgn val="ctr"/>
        <c:lblOffset val="100"/>
        <c:noMultiLvlLbl val="0"/>
      </c:catAx>
      <c:valAx>
        <c:axId val="97560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64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6D5-22CD-41F2-B19B-C442160A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FB2-2803-48EA-8AE4-E4DD38DD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53A-5837-46EF-B8EC-9C95F668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38D-94E2-48FF-ABC9-E67CDE1E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AF4-DF91-47D8-A042-7560D231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AF0-5A4D-407E-8A04-45A634D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34D-5349-4082-AAD5-8C1C9587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34E-B24F-47A2-B1DD-B6CC3BBF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081-DFA9-4269-A0A7-A6A2E6D5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3CC-098A-4C93-BD25-C91A6A1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7D4-D0F2-45A8-AA7B-0AAE4C34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7F3-078C-4A7E-8670-C9C240B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50190-B028-4FA5-96CD-9C8E18B7BE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