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705329"/>
        <c:axId val="66071471"/>
      </c:barChart>
      <c:catAx>
        <c:axId val="127053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071471"/>
        <c:crosses val="autoZero"/>
        <c:auto val="1"/>
        <c:lblAlgn val="ctr"/>
        <c:lblOffset val="100"/>
        <c:noMultiLvlLbl val="0"/>
      </c:catAx>
      <c:valAx>
        <c:axId val="660714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7053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A781-15EB-4B25-BA84-DABF980EB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9089-7EFA-4E2E-ABB5-C5589EC7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296F-5C83-41C1-A0EC-D9A3BB3D3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B7F6-E4C3-4C09-8091-53C8F7C41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AFD6-9C13-4CD8-9FAB-F5430FB5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0600-C95D-4E3A-83CA-DC4D4929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9A32-7666-4BE6-B2BE-8F3E4F55B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F478-311E-4582-9B28-EF43BBBB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2464-DEBD-46BC-B501-8901024D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B1E1-DA1D-4851-926D-B2311A8E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464C-0785-4AD4-B006-1704A6B9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7884-BCC4-4335-AA70-F9DA46FB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67F52A-EDA4-47CC-909E-5D95E7E82A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