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004632"/>
        <c:axId val="16845283"/>
      </c:barChart>
      <c:catAx>
        <c:axId val="810046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45283"/>
        <c:crosses val="autoZero"/>
        <c:auto val="1"/>
        <c:lblAlgn val="ctr"/>
        <c:lblOffset val="100"/>
        <c:noMultiLvlLbl val="0"/>
      </c:catAx>
      <c:valAx>
        <c:axId val="168452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046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67A0-8DCB-4166-B8CC-51E0F974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74DB-174D-4EA4-859E-0566CF2B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2A30-D454-4EBC-867B-3214B51D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BC65-70E5-4420-A82E-9657D802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3B94-42A2-4D14-8AD3-FE37D73F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096-F209-464A-847F-0B66C1AC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C503-8CB1-48E5-A36A-BE0F6335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25EE-3832-4929-A3CE-12EEBCE3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4981-8D0E-4E10-84A2-685200D4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2BAB-9DB7-453A-BF4B-0FDDC522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E4CC-86A4-4AEF-81C9-FF16E9B6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DD47-AA9C-4D4B-91A5-EC4CC1C1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19575-D277-4501-B2CA-D183E651CF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