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180"/>
        <c:axId val="47092702"/>
      </c:barChart>
      <c:catAx>
        <c:axId val="197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92702"/>
        <c:crosses val="autoZero"/>
        <c:auto val="1"/>
        <c:lblAlgn val="ctr"/>
        <c:lblOffset val="100"/>
        <c:noMultiLvlLbl val="0"/>
      </c:catAx>
      <c:valAx>
        <c:axId val="47092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220-AFD3-44A5-BB51-896D3BBD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69E-9345-4AA8-A778-C948339E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1E5-58C0-473B-B5F0-2C0B4095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481-8D4B-4FC6-85F1-77C8CDFF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44C-E700-4D46-BD75-9E9D02E6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147-E593-43D4-B751-7A4E2FB8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B60-C2D7-4B62-8FBF-B604E055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619-8874-483A-9D02-2A3E9818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522-B19A-4A12-A95D-B8B8B4AE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D52-A440-4483-9EC4-DB2ADC8A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7F0-DB5A-4DB3-92A1-11378178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C0A-7FA5-41AB-8FD6-C9C8317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4F7B1-A8D3-4A53-93D1-BDD8398E0B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