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24299"/>
        <c:axId val="61283815"/>
      </c:barChart>
      <c:catAx>
        <c:axId val="44824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83815"/>
        <c:crosses val="autoZero"/>
        <c:auto val="1"/>
        <c:lblAlgn val="ctr"/>
        <c:lblOffset val="100"/>
        <c:noMultiLvlLbl val="0"/>
      </c:catAx>
      <c:valAx>
        <c:axId val="61283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24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3F9-57FB-4F40-AFDC-B2B39DFF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307-EEB1-4487-871C-F94F5CE7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F2B-069F-43CF-B8D2-CD742B57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C4C-37B7-4BEC-9A71-33F65289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366-10CC-4F83-9BE7-C9893E4A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1B0-2451-4904-B3CD-0A38F53A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CC2-3115-4B74-9A86-FD9DB2A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DE7-A889-4905-B005-F47D68C3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7CF-E6D9-46FC-A80D-A77C32B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DA0-9E8E-4931-A8CC-1E5B40F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CA9-DCD3-4FA8-8265-4C237895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23A-8FA7-4F46-8050-83A4BA27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3D8B8-99A1-483D-ACAC-C5E9EDDD33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