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51453"/>
        <c:axId val="7151002"/>
      </c:barChart>
      <c:catAx>
        <c:axId val="21451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1002"/>
        <c:crosses val="autoZero"/>
        <c:auto val="1"/>
        <c:lblAlgn val="ctr"/>
        <c:lblOffset val="100"/>
        <c:noMultiLvlLbl val="0"/>
      </c:catAx>
      <c:valAx>
        <c:axId val="7151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51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98F-4B21-4323-881F-D6EAD749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FA45-214B-46DC-8694-923F5260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14C-6BE3-4288-AD47-B1311A7C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C5F-6089-456E-9219-33528B9B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0DD-38B2-41CB-A0AC-DB847B39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E7A-C8F4-42C5-81BC-4DBAEE47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3FE-72D0-421E-B2D4-1A1C79F0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2FC-5790-481D-B9EA-0F8A0873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C1D-B0C1-423C-90D6-E37714A0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B9E-C4A3-4A34-8122-9D7FDC14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249-9BCC-4870-8FFF-2E0E2702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DAA-6DC1-4B5E-88FE-4FDEFB5B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122A0-9345-4DBB-BD37-CF0FB1B12A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