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248558"/>
        <c:axId val="2726252"/>
      </c:barChart>
      <c:catAx>
        <c:axId val="732485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26252"/>
        <c:crosses val="autoZero"/>
        <c:auto val="1"/>
        <c:lblAlgn val="ctr"/>
        <c:lblOffset val="100"/>
        <c:noMultiLvlLbl val="0"/>
      </c:catAx>
      <c:valAx>
        <c:axId val="27262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2485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4B71-8FEB-485E-A46E-DE3945215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F8C0-827B-4E89-B63B-516B6029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35D9-4314-42C0-90AF-F5C1EA72B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9CD1-9E41-4310-887B-C2A20FCD7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6541-C078-4F4A-B448-45608B6B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7AB1-6F46-4047-BE97-2C394DED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8E48-08AA-4C1F-A165-55328544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0AE2-729C-42A0-97FF-DBA695BE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2DE9-CAF4-4EC4-B169-A5B23A1F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C5DE-F01D-4A6D-A8CE-0B43B9B0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B88D-8AF5-46A4-AD75-47B4A5F3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2369-25F6-4F49-BB96-C01BBFD8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6B875E-A709-4164-8A33-7B88C8554C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