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291481"/>
        <c:axId val="66591058"/>
      </c:barChart>
      <c:catAx>
        <c:axId val="28291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91058"/>
        <c:crosses val="autoZero"/>
        <c:auto val="1"/>
        <c:lblAlgn val="ctr"/>
        <c:lblOffset val="100"/>
        <c:noMultiLvlLbl val="0"/>
      </c:catAx>
      <c:valAx>
        <c:axId val="665910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91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68A3-60DD-47CB-829E-1BA6B38A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55E0-248B-4DE7-B57D-5A9359F6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B61-0DA6-4A29-BEAC-BA29DE39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5C65-2BAB-4F66-A732-F1C29285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A25-E86F-4255-A187-E443C3F4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3F4-3728-4954-9272-AD648B48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378-AC1A-4F8F-BB8B-F3660EA5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85A-5478-4FC6-A2C9-4F98C038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F271-08C4-47FA-B62D-22403F8A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C97-AF26-40A3-B914-6846E80D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A54A-FF3E-4732-9B5E-0D1CA327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33B5-A6F1-4F1E-8AEE-382C1F1A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98524-D528-47BF-AEC7-4697BF82DC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