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352258"/>
        <c:axId val="8503992"/>
      </c:barChart>
      <c:catAx>
        <c:axId val="143522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3992"/>
        <c:crosses val="autoZero"/>
        <c:auto val="1"/>
        <c:lblAlgn val="ctr"/>
        <c:lblOffset val="100"/>
        <c:noMultiLvlLbl val="0"/>
      </c:catAx>
      <c:valAx>
        <c:axId val="85039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3522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518B-E800-4C36-941C-07D14310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4943-E26A-482A-9B2B-F5E4702F0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3DC-4069-4ABA-BD9D-63EF0271F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89F7-E94B-40AB-AFE1-DB70AAB00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C86E-B9B2-4F20-85E9-B07EFF81A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68C8-D13C-4695-9D85-71086BF9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E439-4A81-4CE1-B9E1-FE15701F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C62-E47A-4A25-A000-FF1EA095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604-1699-4856-95E9-B7759FA74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917A2-8366-43B0-9F33-7166F643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A1C-4544-44C4-B56B-153005F3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5D3-C4ED-4DF9-8CE8-0D4EDECF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B754E-10FB-4DE3-8F9B-090ED1B117A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