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295368"/>
        <c:axId val="66416366"/>
      </c:barChart>
      <c:catAx>
        <c:axId val="632953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16366"/>
        <c:crosses val="autoZero"/>
        <c:auto val="1"/>
        <c:lblAlgn val="ctr"/>
        <c:lblOffset val="100"/>
        <c:noMultiLvlLbl val="0"/>
      </c:catAx>
      <c:valAx>
        <c:axId val="664163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953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4CE6-D006-4FD6-AB0C-DCA2F1595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8700-00E0-43CD-8A8A-920E61D3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0C3F-AFF6-4FE9-B763-A9BB15133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4799-C527-4AA6-8FDB-4673C440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C46D-CEB9-4D77-94EC-7B3DD72B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8E2F-2155-4CCD-A4FB-19D18B33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C430-459E-4DEA-96C8-C35A5161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0D9A-AFD4-4EF9-869B-091F91D4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DFFD-DB35-4C9E-8762-37897DAB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7FFE-BCE9-401C-945C-BEF5F830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6D12-6495-46D2-9B07-EB996010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9332-3B34-4F50-85AC-BDE43E82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76A5B-8A93-40DF-BEF9-76516074A1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