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80353"/>
        <c:axId val="13968504"/>
      </c:barChart>
      <c:catAx>
        <c:axId val="77880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8504"/>
        <c:crosses val="autoZero"/>
        <c:auto val="1"/>
        <c:lblAlgn val="ctr"/>
        <c:lblOffset val="100"/>
        <c:noMultiLvlLbl val="0"/>
      </c:catAx>
      <c:valAx>
        <c:axId val="13968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80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081-8C00-478F-A49B-32C3623F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CD6-B8BF-41F2-9469-367154B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D9D-F069-44CB-8C2D-EC952474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585-5882-432C-8F38-ED77A536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54A-DDBC-4F16-BFE7-749A7E96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777-1B10-483F-B042-F063903C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6F6-5B13-4A4A-B5A6-9A1BB90D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D4B-9FE8-40A8-921C-5651C6E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FCE-C492-4156-843C-F2C7F66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C40-7074-4056-AB6F-D7D4E3E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4E7-F1F9-4360-9C71-F18A6A5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0BF-12B8-48C6-9B1F-CB52F00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E88CF-1B57-4E60-A0B7-6D2E80089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