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94354"/>
        <c:axId val="64464659"/>
      </c:barChart>
      <c:catAx>
        <c:axId val="53994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64659"/>
        <c:crosses val="autoZero"/>
        <c:auto val="1"/>
        <c:lblAlgn val="ctr"/>
        <c:lblOffset val="100"/>
        <c:noMultiLvlLbl val="0"/>
      </c:catAx>
      <c:valAx>
        <c:axId val="64464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94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990-A27F-498A-8474-135EF144C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FF4-AE94-43EC-BFDC-205026DA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0DF-2225-43AB-9602-31D0FA3A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C237-1423-439D-8BC7-68D07839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E25-B8A8-41F5-8496-87A5535F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6FCB-FC08-46AB-9EE2-2C67B0AF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D7B-0182-4C6F-A70A-414CF66D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8CC1-68E7-40CA-8482-33AA93B0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131-5F30-42A2-8B0D-AF233568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14C-BB9C-43D2-9389-CD8C1AFF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9B2-E841-4C6A-9A34-F4A64DBF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74AE-EA57-42A2-8102-54241587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6E8DD-45B2-4D4D-8AD4-ED2A44174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