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92710"/>
        <c:axId val="36943362"/>
      </c:barChart>
      <c:catAx>
        <c:axId val="64792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43362"/>
        <c:crosses val="autoZero"/>
        <c:auto val="1"/>
        <c:lblAlgn val="ctr"/>
        <c:lblOffset val="100"/>
        <c:noMultiLvlLbl val="0"/>
      </c:catAx>
      <c:valAx>
        <c:axId val="36943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92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790-B976-4081-9C8C-5B4B416D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117-6DD4-4F3F-BC76-7B3D61A1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5D3-EEEB-46DF-B57E-540F4231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050-B6B5-490C-B865-F9F88CDF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6F2-28AE-458C-88FE-C1EA40F7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7C1-F05B-4F67-8298-803532B8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6E5-053A-4CEE-A2C3-1A72823F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4AF-BE0C-4D5F-A26A-834C718D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65B-B9B6-4595-8100-59DAFAF5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64D-64DC-45E6-AC32-E60A35A3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37F-2A40-4A01-987A-A7C0BCAD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5D9-E2F9-4B13-AFFB-0F0A966A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C261F-A370-4764-B5F3-5C43918213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