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34273"/>
        <c:axId val="86938737"/>
      </c:barChart>
      <c:catAx>
        <c:axId val="6843427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38737"/>
        <c:crosses val="autoZero"/>
        <c:auto val="1"/>
        <c:lblAlgn val="ctr"/>
        <c:lblOffset val="100"/>
        <c:noMultiLvlLbl val="0"/>
      </c:catAx>
      <c:valAx>
        <c:axId val="8693873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3427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A259-F3F7-4E5E-BACB-39F9AC200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3A90-B44C-469E-AD96-295D1A2E1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8925-B1C4-491A-B833-94494F0F9F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DC4AB-48D8-48CE-B8AE-5AB567E62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48FE3-0EB0-43AB-8FE6-46A0C22AD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A1A71-09BA-4885-9950-1F048E1D4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6EF30-2583-4213-9E44-4F08D5587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B0E59-F712-45E6-835E-6D501363B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BB6-D4DA-4FA4-B742-1DD83369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09400-1361-4ABB-A55E-F264FE74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785C6-F91C-420D-9A4C-BF3F9ACA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5ECC-E722-4B0B-86D7-AF1DA10B3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F37BFF-11A2-45D1-8D8A-0166420CC9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