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36649"/>
        <c:axId val="48868765"/>
      </c:barChart>
      <c:catAx>
        <c:axId val="589366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68765"/>
        <c:crosses val="autoZero"/>
        <c:auto val="1"/>
        <c:lblAlgn val="ctr"/>
        <c:lblOffset val="100"/>
        <c:noMultiLvlLbl val="0"/>
      </c:catAx>
      <c:valAx>
        <c:axId val="488687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366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F9C-A579-418E-8798-32595FB9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A78-4C45-4BD7-A5BC-95F28F37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967-47BD-40F3-92B8-580A4113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517-5A00-4A40-B074-C008F69E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C0ED-397C-4945-9E6E-7AD2CB8F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DCC-034F-4DFD-809D-EDF07711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4C0D-8DCA-433F-8FF8-E8C7973F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CD7-C9A5-4CB3-841B-4447D3BC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8F0-3A37-4C3D-9ED2-76B5B4F2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55E7-215D-4DEA-8CD6-2A626543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AB2B-73CD-430E-98AD-8C1F3154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211-1939-46F8-8543-28F3F713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9B0CF-1821-482F-AC1F-F0BFDDACB0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