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50293"/>
        <c:axId val="65254327"/>
      </c:barChart>
      <c:catAx>
        <c:axId val="35150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54327"/>
        <c:crosses val="autoZero"/>
        <c:auto val="1"/>
        <c:lblAlgn val="ctr"/>
        <c:lblOffset val="100"/>
        <c:noMultiLvlLbl val="0"/>
      </c:catAx>
      <c:valAx>
        <c:axId val="65254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50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6E3-CC9D-4B82-B6F6-D3BE7F04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15D-F805-4610-B4F4-C307D406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6B3-BE00-40ED-B510-5E8903BC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5F4-770E-43ED-B848-97A79DE7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BC0-C87A-4227-9300-F28AAA5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978-6C84-4040-ADE5-C6EB3897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C3B-A1C4-43D3-8F72-1C869E0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D1E-1D6C-46BE-90B1-3D23CFE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289-B89F-4D7B-83B5-D428BF45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3F7-1C0A-4B7F-BCC2-7CB642E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574-7994-4813-BA67-65EA079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BC4-9336-4F5D-9F25-FBADE35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A06A5-7FFF-4766-B9FE-12F7C838BF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