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77674"/>
        <c:axId val="49374892"/>
      </c:barChart>
      <c:catAx>
        <c:axId val="50377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4892"/>
        <c:crosses val="autoZero"/>
        <c:auto val="1"/>
        <c:lblAlgn val="ctr"/>
        <c:lblOffset val="100"/>
        <c:noMultiLvlLbl val="0"/>
      </c:catAx>
      <c:valAx>
        <c:axId val="49374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77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ACA-04AD-4110-A566-64FBA85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059-5F27-4821-AA3D-F584D062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E55-D6FC-4F0C-9C9A-0354A9C7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FA4-A698-4BA1-A767-A6212E0E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CD1-2AB5-4133-9F61-3CD82154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E24-F466-4403-8FC2-A05727B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655-4D2F-470F-BFD4-CBB5CF43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D68-FDE4-4769-A122-25B9CC70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34C-BFC2-462B-95BC-0E35E39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CCA-8DEF-49DC-A4AD-05FD0DE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456-C651-4A93-BE46-D0A9F3F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F26-9DBE-4298-BDF4-0421439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28EC9-4762-41B9-BF8A-9BE10E9E2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