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65090"/>
        <c:axId val="96151133"/>
      </c:barChart>
      <c:catAx>
        <c:axId val="14665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1133"/>
        <c:crosses val="autoZero"/>
        <c:auto val="1"/>
        <c:lblAlgn val="ctr"/>
        <c:lblOffset val="100"/>
        <c:noMultiLvlLbl val="0"/>
      </c:catAx>
      <c:valAx>
        <c:axId val="96151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5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30C-75C6-4355-8FC8-A1FECB1B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01F-8F63-4FC8-A460-7346BF61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09B-43FB-4961-816C-24B191FE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315-FA98-4DFC-A815-C65639C4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F80-023A-413F-A343-5287BE3D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73B-550D-47D0-A4E1-8536E3BA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412-BC75-4E7F-A976-D72B67A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EA9-4597-4911-A086-ACC486F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795-96D7-4817-8634-23CD3DC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A61-3390-4710-AEFC-FDC5942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BCF-A633-4CD7-A5F1-223EE8F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17A-ABD8-4FDC-AAD6-109A8AC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00B7-5D5F-4267-BC61-FD4DCA25A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