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4341"/>
        <c:axId val="52779726"/>
      </c:barChart>
      <c:catAx>
        <c:axId val="4074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79726"/>
        <c:crosses val="autoZero"/>
        <c:auto val="1"/>
        <c:lblAlgn val="ctr"/>
        <c:lblOffset val="100"/>
        <c:noMultiLvlLbl val="0"/>
      </c:catAx>
      <c:valAx>
        <c:axId val="52779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4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19F-55CF-4301-816B-BEE6D915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AA6C-6E05-40ED-B1A6-00824846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25C-A220-4E90-813F-36ACB7A4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C81-BDB8-4C3A-A46F-59D0E578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B33-EB54-4973-BEF2-B386C1E7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E27-FE7C-4D3B-A6DA-DB2F1F94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DCA-32B7-480A-AE1A-B3B238D0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009-5FA4-4B42-96F5-1F7B145A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CD6-493E-497D-AAD9-F3D0F1AD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BB32-F780-41F7-8EF0-9B0DDD3E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44C-6D49-4655-B3EE-F52D15BC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14B-1686-4FBA-9098-72F1D26F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06F41-1DA4-4719-AE8F-A4C6BF4AFD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