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184566"/>
        <c:axId val="45073521"/>
      </c:barChart>
      <c:catAx>
        <c:axId val="681845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73521"/>
        <c:crosses val="autoZero"/>
        <c:auto val="1"/>
        <c:lblAlgn val="ctr"/>
        <c:lblOffset val="100"/>
        <c:noMultiLvlLbl val="0"/>
      </c:catAx>
      <c:valAx>
        <c:axId val="450735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845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DC56-54F8-484E-9598-E54C903D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633F-6957-4196-B5D6-1C45849D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DFD8-480A-43FF-A429-C059EE0E7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4A8D-5191-4A65-ACAB-ED44E6703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A93F-2031-46BA-9664-2B0C6085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ECDF-21A7-4057-9AF8-AF81D968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ABE9-A88A-42FF-8A3D-76AF6D2B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2A80-6545-4815-BF6B-8123971D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3F52-D1BA-4461-B181-5B4F8A0C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6F46-4BE0-4483-9363-7639A221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7E04-61E5-4921-8AD5-D7043633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42A1-AE9C-49FE-8A29-0676669C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6E5AA-3E3F-402B-86CC-5EE6E57A9D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