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90465"/>
        <c:axId val="67615387"/>
      </c:barChart>
      <c:catAx>
        <c:axId val="86390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15387"/>
        <c:crosses val="autoZero"/>
        <c:auto val="1"/>
        <c:lblAlgn val="ctr"/>
        <c:lblOffset val="100"/>
        <c:noMultiLvlLbl val="0"/>
      </c:catAx>
      <c:valAx>
        <c:axId val="67615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90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FB3-9117-4E7C-AF80-F8A2FDBB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870-E69D-4577-B0C6-DA813DC2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989-056D-4684-8332-210B9830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F25-BF5A-4F68-AF1E-DFE9DB2D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5E0-047E-4B01-8106-046C0753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496-9244-46E6-8696-651E26E2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3A3-2C85-43AA-A9CB-4263504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205-83ED-4C11-87A2-6037AB3F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AE5-5FED-4D6E-BE26-A5DA39D3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E70-6594-4684-BF4F-2C112406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596-9BB3-404F-9334-0A86D98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BE0-ADC7-42E7-A958-0B0FEFAB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431FA-7826-4D50-A01B-153078CC72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