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167963"/>
        <c:axId val="14813041"/>
      </c:barChart>
      <c:catAx>
        <c:axId val="551679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813041"/>
        <c:crosses val="autoZero"/>
        <c:auto val="1"/>
        <c:lblAlgn val="ctr"/>
        <c:lblOffset val="100"/>
        <c:noMultiLvlLbl val="0"/>
      </c:catAx>
      <c:valAx>
        <c:axId val="148130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1679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1D1D-8297-4FBD-BE14-8F747322C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AD57-3F68-4007-A468-C823442C8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ACC9-FF40-4FAF-B09E-DE39B8A98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0447-63DB-4AA2-B53A-A48ED8A54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0D13-3771-4AAE-B337-03A37B0B2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2C8B-2645-4810-8CA9-E66DF4725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7DC1-C846-47CB-A7E0-E720155BE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84BB-373A-4476-9329-90332947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039E-8014-4515-8FDE-11324D032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4185-7C98-4EC1-8EC1-6C8D1FFA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0477-345C-4AFE-B5F6-5DFCD9EC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CE62-E093-419B-BE7F-DC039005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B7598C-EDF2-4A61-ADB9-3A6CC3B3C7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