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283148"/>
        <c:axId val="72103300"/>
      </c:barChart>
      <c:catAx>
        <c:axId val="322831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103300"/>
        <c:crosses val="autoZero"/>
        <c:auto val="1"/>
        <c:lblAlgn val="ctr"/>
        <c:lblOffset val="100"/>
        <c:noMultiLvlLbl val="0"/>
      </c:catAx>
      <c:valAx>
        <c:axId val="721033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2831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4D50-C90E-4C1D-B253-3AA7BCA6F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314E-5A6B-4DB8-A2DC-44F8CA1B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901B-B68C-46D2-A233-D91836102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5CAF-4ADB-4AED-8B24-E9BF16C0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A59D-F4B2-4082-B290-DDA8C789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383A-6287-4CEF-B12E-B4C65AAD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51DE-75DF-41B4-B4D4-8E59E554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DC01-0275-4250-829F-9259C829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83D4-7F51-4453-8CAE-7AC9D5F4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35C2-3040-41E7-8499-6C50D67A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403C-21AB-4EF9-8B0D-76D0BC84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F842-0EB7-4838-B0EB-D543393F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3C67C-08A3-4A1B-B28F-3CFF2B4B9E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