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93388"/>
        <c:axId val="33466057"/>
      </c:barChart>
      <c:catAx>
        <c:axId val="81193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66057"/>
        <c:crosses val="autoZero"/>
        <c:auto val="1"/>
        <c:lblAlgn val="ctr"/>
        <c:lblOffset val="100"/>
        <c:noMultiLvlLbl val="0"/>
      </c:catAx>
      <c:valAx>
        <c:axId val="33466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93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48B-D029-4E2E-8C4E-B7DA4FF3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03E-C0D0-45B1-AB5C-526F9610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E75-2586-40BB-8CA6-EA143E45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AAA-D350-4363-AE00-13B8E25C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7A6-5257-4766-96D1-42D140DF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2E4-A269-4C35-85AD-1951175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FE3-64AF-412A-8297-E61605A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87E-03D9-4F66-A17D-BDA39F1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B94-0CEB-4266-8FFA-06FF1415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093-EF9B-4C2F-8B82-C6F735F6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996-5E16-40F1-B18E-FC05D84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0B9-9300-43EA-9207-A370803E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90FA4-1F4D-4782-AA4C-3598F73AD0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