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307852"/>
        <c:axId val="66528620"/>
      </c:barChart>
      <c:catAx>
        <c:axId val="623078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28620"/>
        <c:crosses val="autoZero"/>
        <c:auto val="1"/>
        <c:lblAlgn val="ctr"/>
        <c:lblOffset val="100"/>
        <c:noMultiLvlLbl val="0"/>
      </c:catAx>
      <c:valAx>
        <c:axId val="665286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3078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13D7-9859-4CBE-BCCB-00736B8BD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406F-27CD-4333-BF36-EAB7D04D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C310-19FE-4440-A788-8CF6D4A43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F85C-C495-48F1-B57E-8C3806329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32FA-DD6F-44AC-8C33-43A3A91F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92ED-61A4-439D-9222-9EAE56CC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FD1C-BA9B-47C3-8292-FD02756E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7953-21F3-4CDD-BA3B-6BF52E00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57B8-E07A-49CD-8376-63874C44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EB71-5839-40E7-93AB-17AF43CD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9597-D19D-4567-9A62-234883B0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BAC6-219B-475B-8EC6-8359BD2E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02603-9818-40BA-BE81-B4C8698D53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