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805667"/>
        <c:axId val="90474319"/>
      </c:barChart>
      <c:catAx>
        <c:axId val="568056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474319"/>
        <c:crosses val="autoZero"/>
        <c:auto val="1"/>
        <c:lblAlgn val="ctr"/>
        <c:lblOffset val="100"/>
        <c:noMultiLvlLbl val="0"/>
      </c:catAx>
      <c:valAx>
        <c:axId val="904743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8056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D1A9-9E6B-44F0-B074-0CA5D33E8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34EB-1A60-492A-962F-6CA47C13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2F0F-9494-4D59-9340-7D1607BB7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FE1F-8ECE-4AA4-9CE5-817E1F76D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AAE3-B1B4-4EF1-9AD3-47227AD4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F0D7-AF41-4F29-BDB2-FA7CBDB9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5604-EE94-49C4-B270-8F16C60E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5EEB-9F04-4BC7-8791-72D9E97F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5D81-857D-49FF-8091-CFB4F0ED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57C2-FEF1-4BE2-B67A-D567857D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CA61-ED9A-4988-93D8-2C6CE4F6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4645-2533-4129-9E47-43F76FEA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88D45-3188-417F-A819-6908A52F2E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