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23945"/>
        <c:axId val="71406724"/>
      </c:barChart>
      <c:catAx>
        <c:axId val="77523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06724"/>
        <c:crosses val="autoZero"/>
        <c:auto val="1"/>
        <c:lblAlgn val="ctr"/>
        <c:lblOffset val="100"/>
        <c:noMultiLvlLbl val="0"/>
      </c:catAx>
      <c:valAx>
        <c:axId val="71406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3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37F-D79C-4743-BEFD-4FF9D1E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92E-5A11-4B72-9005-D609458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559-F59F-43DD-B978-836DE956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263-1624-49AD-827A-925D9A50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388-27C1-4D17-8F5E-A1D8C6A2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0E0-DC08-48FB-835B-1D23FDE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43F-4547-4392-B29F-365A484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57B-F643-4C3C-8144-89DB9CE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CCB-58CD-4731-B701-059D7142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A6F-46F5-4CC5-B8B3-3CF6999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22E-CB69-4C03-AE81-B48A195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8C8-C5E7-4250-ADF1-C614166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E3A62-3688-4789-ABAE-6A725E368C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