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590829"/>
        <c:axId val="17725073"/>
      </c:barChart>
      <c:catAx>
        <c:axId val="475908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25073"/>
        <c:crosses val="autoZero"/>
        <c:auto val="1"/>
        <c:lblAlgn val="ctr"/>
        <c:lblOffset val="100"/>
        <c:noMultiLvlLbl val="0"/>
      </c:catAx>
      <c:valAx>
        <c:axId val="177250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908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2C5C-5F9C-4D37-8D9E-CE7625C7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3783-852A-43AD-9F44-16E1BF01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AC4D-A264-4DF5-BAE2-9D99ACC4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A8F7-9117-46A5-853D-E4B15152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D235-D0D1-44DC-801E-3235B858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8464-405D-4442-A83A-D03BC23F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409D-F094-447F-AE7F-511071BB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8FC9-C176-4BE0-8C6E-78A0AA6A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F931-31FA-4F36-BCC9-68198B73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91A0-29D9-496F-B5B0-ABF1C4C5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A66D-E7D2-4730-86AF-848EE22A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F32E-D1CF-4086-AE56-62D71695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86458-C8A5-46AF-A3E1-84E16B16F2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