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90894"/>
        <c:axId val="37414691"/>
      </c:barChart>
      <c:catAx>
        <c:axId val="93490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4691"/>
        <c:crosses val="autoZero"/>
        <c:auto val="1"/>
        <c:lblAlgn val="ctr"/>
        <c:lblOffset val="100"/>
        <c:noMultiLvlLbl val="0"/>
      </c:catAx>
      <c:valAx>
        <c:axId val="37414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90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67B-5533-4304-B4F7-9554FC45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251-C802-451B-8C30-65D0049E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F9E-07E5-4235-8C3F-F1A5D8D2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071-519F-4AB8-AFB5-0C838219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9EE-A705-4697-8420-C410014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E66-1156-4645-8638-AAA1EF20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EAB-A1D8-4223-B1AC-B2F9E740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982-C41F-4275-85E7-FFB205F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D3E-BF45-49C1-9A85-C48E31FC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869-A0C8-4F7A-9FFC-690BF1C7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91C-71C7-41A7-9509-1D77453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FF2-9A30-4C2A-BD2B-8D1B667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45767-CEC5-4B4B-B373-7D0DCB686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