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62431"/>
        <c:axId val="56934707"/>
      </c:barChart>
      <c:catAx>
        <c:axId val="61562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34707"/>
        <c:crosses val="autoZero"/>
        <c:auto val="1"/>
        <c:lblAlgn val="ctr"/>
        <c:lblOffset val="100"/>
        <c:noMultiLvlLbl val="0"/>
      </c:catAx>
      <c:valAx>
        <c:axId val="56934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62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E42-59D3-4318-AB25-E9BE46AE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AF4-6B1F-4623-BBDD-22C0ABB6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CEA-2E60-439C-BE69-F6B73404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EEE-3643-40F8-B4A8-BEC48C3B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2BF-AF64-4CFF-85E6-62C37745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843-9811-46A0-AE53-ED15264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30C-411D-48F5-800A-ABFEAB04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2C6-247A-454B-A80A-B218D65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CD5-7C03-44D4-BEB4-9C96D86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DEF-03CA-4075-AD11-80635DD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5B0-E3EF-4595-BCA4-C186897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840-B129-4D39-83AE-93C709D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92A21-4B7B-4E77-9778-CB49AD4B3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