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31666"/>
        <c:axId val="87827566"/>
      </c:barChart>
      <c:catAx>
        <c:axId val="13131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27566"/>
        <c:crosses val="autoZero"/>
        <c:auto val="1"/>
        <c:lblAlgn val="ctr"/>
        <c:lblOffset val="100"/>
        <c:noMultiLvlLbl val="0"/>
      </c:catAx>
      <c:valAx>
        <c:axId val="87827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31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412-EDEA-416C-B801-AF3165B4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895-7F45-4747-B5F3-24B3CCA5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5D0-EA4C-42EE-B9DF-2FA2FBFF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62D-7A82-4ADB-B1E9-372C5D47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0A4-8C28-4CDA-82B4-7F2A436D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BCF-39A4-4511-95E2-22D3C15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EC0-DBDE-4CAD-9DEB-CF4E0CA9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2F3-43F6-4443-988B-6296EC7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6DA-7F8D-43A4-8D6C-068BE79C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487-D4A6-4602-B340-D43BD99F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FA0-41F5-4142-B878-22AE87C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4C0-158C-4652-A5F2-FD8D1E32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68271-8628-47F8-9E19-56E29439F2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