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13802"/>
        <c:axId val="63401226"/>
      </c:barChart>
      <c:catAx>
        <c:axId val="63813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01226"/>
        <c:crosses val="autoZero"/>
        <c:auto val="1"/>
        <c:lblAlgn val="ctr"/>
        <c:lblOffset val="100"/>
        <c:noMultiLvlLbl val="0"/>
      </c:catAx>
      <c:valAx>
        <c:axId val="63401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13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85A-D1C5-4EC0-B6C2-8DE4C23B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652-224F-4BC3-833E-6273D9FC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DCD-99C0-4EE2-A84E-E291BF49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C12-6B90-45DD-84D0-705F23C2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05A-FA46-4661-B404-1650DE7E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C58-F7AB-49A0-8C01-2B688AC8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CB5-8942-43BE-9CA2-50D0CFF9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EB3-3B41-4795-A45A-EB3ECD34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0FA-FD48-4019-8EA3-C7173EF8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FC1-23DB-46AC-934E-7E198619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3A2-F2BC-4B50-92AB-A9EA3A07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697-5411-425B-A949-AECB3D3A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40C52-0B95-48FB-B611-69F0B76432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