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08166"/>
        <c:axId val="90834014"/>
      </c:barChart>
      <c:catAx>
        <c:axId val="95108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34014"/>
        <c:crosses val="autoZero"/>
        <c:auto val="1"/>
        <c:lblAlgn val="ctr"/>
        <c:lblOffset val="100"/>
        <c:noMultiLvlLbl val="0"/>
      </c:catAx>
      <c:valAx>
        <c:axId val="90834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08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5DA-D41C-467C-B8ED-EE855468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46C3-CD07-41A6-8177-5D02CD00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510-1CF1-46A8-A74F-66BE166F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E4F2-A669-4A16-95D1-A2E879D3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1E6-3EA5-4502-AF26-4B8C7093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8F1-DBFD-4E76-A067-CC35FDB3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17B-1AD5-4BD5-BBFE-0A505F00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509-1573-4554-8C53-B72FEB02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A6B-090F-4481-AACA-B3651931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146-B645-41A5-A041-AF738EE8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D3F-C42A-402F-8597-E72008E7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5641-05DB-4050-95E1-526D3575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CE93A-689A-48F1-903E-F52D829C36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