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82110"/>
        <c:axId val="23600121"/>
      </c:barChart>
      <c:catAx>
        <c:axId val="41082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00121"/>
        <c:crosses val="autoZero"/>
        <c:auto val="1"/>
        <c:lblAlgn val="ctr"/>
        <c:lblOffset val="100"/>
        <c:noMultiLvlLbl val="0"/>
      </c:catAx>
      <c:valAx>
        <c:axId val="23600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2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854-902F-4C6E-95D8-BD677BD6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7AE-9173-43BD-8BFD-53A99F41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B06-84EC-4203-8A32-73F852D8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78D-6153-46BA-B293-E8F2A1DD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363-0498-43A4-8405-B0684BDE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A57-2219-4FBB-8820-30CFB00C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2CE-4B19-4AA5-B12C-52265125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E6D-DCEB-4DBA-AAD6-69732561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A31-23B7-4EBA-BD3F-BFA34D5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EBC-3277-4207-ACF4-9EC8F7C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AC6-8BAA-4914-86D9-FFDB39B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BA5-0EC4-4AEC-ACC6-E489E6D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0D52-531F-41F2-8BAC-455D6966D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