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556"/>
        <c:axId val="82362261"/>
      </c:barChart>
      <c:catAx>
        <c:axId val="348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2261"/>
        <c:crosses val="autoZero"/>
        <c:auto val="1"/>
        <c:lblAlgn val="ctr"/>
        <c:lblOffset val="100"/>
        <c:noMultiLvlLbl val="0"/>
      </c:catAx>
      <c:valAx>
        <c:axId val="82362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A3B-CF58-4489-8BEA-FFD24AFE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BBE-012F-4B43-A83B-077C63EE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81C-6CD8-4FA9-978D-A32B8BF9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72E-25A4-4998-9B27-775AE15D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0F7-1A53-48ED-80BD-EC2738B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EB1-A755-4E48-97CA-9EDDD40C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6CF-43A0-4ABE-84E4-425BA3F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3D0-B272-4CA3-972C-449407A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2C9-AB58-4770-8D31-176B9FAE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60E-194C-4044-B619-1562B11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C30-9CFA-49CC-8158-4B9E7CC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2AD-2330-4DAA-AE94-BC59110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56EBD-3492-4D5A-8F10-6E85E64664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