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23590"/>
        <c:axId val="41682595"/>
      </c:barChart>
      <c:catAx>
        <c:axId val="50523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2595"/>
        <c:crosses val="autoZero"/>
        <c:auto val="1"/>
        <c:lblAlgn val="ctr"/>
        <c:lblOffset val="100"/>
        <c:noMultiLvlLbl val="0"/>
      </c:catAx>
      <c:valAx>
        <c:axId val="41682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3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8B4-CDE4-46EA-B29C-859FB986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BE0-9B0C-4F28-BB53-EBBDC4E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CDC-9B9F-4F0A-8493-574AE553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527-FDD6-4464-BB2F-E8A165F9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51-F1F3-4572-950B-C15BDE31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14F-4243-4457-BEC5-CB617E6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80F-3E48-4381-BCFF-A6278DCF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FA3-8289-4F48-89D4-98BE9BF5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A01-B8C5-47BA-A67E-075BF75F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7CF-CE75-4B4F-885E-A0F5E04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B16-D546-4303-B5C0-5B0CB5C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F29-9CCB-4A99-A8FC-4CED808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E3A0F-7A9A-4F36-8B2A-78F9BE8E0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