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15592"/>
        <c:axId val="40206523"/>
      </c:barChart>
      <c:catAx>
        <c:axId val="19515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06523"/>
        <c:crosses val="autoZero"/>
        <c:auto val="1"/>
        <c:lblAlgn val="ctr"/>
        <c:lblOffset val="100"/>
        <c:noMultiLvlLbl val="0"/>
      </c:catAx>
      <c:valAx>
        <c:axId val="40206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15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148-1A5C-4A86-8E46-1B03AC76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482-9408-4254-AE2D-DDA7892A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F44-DB4B-41F4-9D1C-C48DA328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D53-5E64-4F7A-8FAB-98370C6C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0EC-7AF2-40A0-979B-D8F86B2D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C20-0DF9-4430-B3CD-06AA953B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550-0FB7-4555-B2F8-A274798A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71D-0505-491C-B71E-4DACE10B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0E3-2653-41CD-A432-750D9135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29F-9AB1-4265-94E0-A395E530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21D-D9B6-4099-96C6-726D87F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B45-CCE1-4EA9-ABA2-AE126321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052A8-32DD-4ED7-8B8F-E1A939A994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